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A40-90BB-481F-B94F-313C61E9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B5C-70B7-4ACD-9635-03760A20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B6F-A735-48CD-A04E-5BFA26EB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8E7-42FC-4457-8066-F6CEF9FE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8BA-7F39-4029-8CEC-8A39504E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474-159B-4C18-9D4E-3CDAE6A6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AFB-DBD1-417B-9E51-1E614416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4E0-9C39-4C9D-8958-D551387A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B22-1B40-4B7E-AEA1-879C184B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9D2-110D-4FE5-9F50-B89791B1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354-2A71-48A5-85CE-3EF0683F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6D5-0C64-4B81-9283-B5D56227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4FD7-6C70-4CA8-888C-B60BC17FC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 22.39 potrka na vrata 55-letna pacientka, prišepa v ambulanto ter sklonjena navzpred s trpečim glasom reč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Že 2 meseca me boli križu in levem kolku, zadnji teden pa se je bolečina močno poslabšala in seva še navzdol v leva meča. Ne zdržim več. Prosim, storite kaj, Lekadol in Ketonal mi nič več ne pomagat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e posebej smo pozorni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st po L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ue-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stiranje mišične moči sp. ekstremitet (hoja po prstih/petah, vstajanje iz poče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e ugotovimo parezo, je pomemben čas trajanja pareze (&gt;3d HITRO, ≤3d NUJ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rmatomska porazdelitev hipeste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ktalni pregled za testiranje sfinkt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429000" cy="2416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38680" y="206676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638680" y="42004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29528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pregledu ugotov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talgična hoja na desno nogo, obsegi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ravnana ledvena lord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zitiven L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ue levo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desno n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bljivost kolkov in kolen prosta, nebole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abša groba moč dorzifleksije levega stopala in palca (stopnja 4) že 10 d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ipestezije po zunanji strani leve gol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ktalni pregled b.p., refleksi simetrič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a je naša delovna diagno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ndylodisc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rtroza levega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ndrom </a:t>
            </a:r>
            <a:r>
              <a:rPr b="0" i="1" lang="sl-SI" sz="3200" spc="-1" strike="noStrike">
                <a:solidFill>
                  <a:srgbClr val="000000"/>
                </a:solidFill>
                <a:latin typeface="Arial"/>
              </a:rPr>
              <a:t>caudae equi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ateri spinalni živec je prizad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j je nujen naslednji korak (ob 23h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očan analgetik, Rp za analgetike doma, napotnica za MRI in F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ojšnja napotitev v bolniš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očan analgetik, pričakujemo izboljšanje v 1-2 dn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tg hrbtenice in nato odločitev, kaj napr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avlj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2-3 tedenski počitek, mirovanje, analgezija, protibolečinska obse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gibavanje šele po umiritvi bole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RI zaradi potrditve diagnoze in odločitve glede operativne terap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perativna terapija ni </a:t>
            </a:r>
            <a:r>
              <a:rPr b="0" lang="sl-SI" sz="3200" spc="-1" strike="noStrike" u="sng">
                <a:solidFill>
                  <a:srgbClr val="000000"/>
                </a:solidFill>
                <a:uFillTx/>
                <a:latin typeface="Arial"/>
              </a:rPr>
              <a:t>urgentno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ndici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daj bi bila indicirana urgentna operaci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finktrske mot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unkcionalno pomembna pareza ≤3 d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26240" y="3429000"/>
            <a:ext cx="3089160" cy="3200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3657600"/>
            <a:ext cx="5334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 tem primeru napotiti pacienta v bolnišnico, ki ima možnost urgentnega MRI in urgentnega spinalnega kirur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 komu bi napotili NEurgentnega pacien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ro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rokir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zi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rez anamneze/pregleda ne morete pravilno oceniti urgentnosti in bolnika pravilno napot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edeti, kaj je NUJNO (sfinktri, pareze ≤ 3d), kaj HITRO in kaj ne zahteva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cientu razložiti potek bolezni (2t-3t boleči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pake: odklonitev pacienta, zakasnitev pri sfinktrskih motnjah, nenatančen pregled mo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storite s pacientk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 jo NUJNO napotite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napotnico, jutri pregled v bolniš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cientko pregledate in se nato odloč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Rp za močnejši analgetik in jo naročite na pregled naslednji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j je pomembno vprašati v anamn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o časa sevanje bolečine v meč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vič v življenj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čina? Mrzl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ožilni dejavniki (poškodb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FINKTRSKE MOTN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e bolezni, zdravila, al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3743280"/>
            <a:ext cx="3809880" cy="311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" y="957240"/>
            <a:ext cx="4800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ientka nam odgov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čina seva v meča 10 d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čkrat bolel križ in kolk, nikoli tako hu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z vročine ali mrzl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spomni se sprožilnega dejavni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čine v mirovanju, tudi ponoč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no ne jemlje zdravil, alergij ne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LOVANJE SFINKTROV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 blato grem bolj po redko, zato vsak večer pojem četrt lubenice in popijem  2 dcl segrete mineralne v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 vodo grem v redu, le včeraj zjutraj mi je nekaj vode ušlo, ker zaradi bolečin nisem pravočasno prišla do stranišč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je naš naslednji ko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inični preg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mo napotnico za MRI levega ko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mo napotnico za MRI hrbte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entko takoj napotimo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inični pregled hrbtenice in kolka obseg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(drža, fiziološke krivine, obseg gol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pacija in perkusija, Homansov 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seg gibljivosti (iztegnjeno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) v kolku, kolenu, gležnj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spodnjih ekstremit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otorika, tonus, refleksi, senzor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2-10-02T16:12:52Z</dcterms:modified>
  <cp:revision>1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